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camera.wav" ContentType="audio/x-wav"/>
  <Override PartName="/ppt/media/image7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0820-70E4-4C50-A0BC-EE9001DF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ADB3-6C23-482E-ABAC-44E9164A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BBC7-F7D5-44BB-9504-C32830F1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5E97-54C7-4A59-89A2-3F047F61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325B-6775-4448-A043-C27DD4BA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6FE6-E7BD-4BE1-9300-6C640ECA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2944-F483-422C-8390-ED8285BF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7942-F741-4B23-B424-4F58655C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2EC8-025F-4203-BDFA-F1BEF629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2F53-E051-42FE-AA2E-C16188FA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7749-51A0-4F86-8936-7339EA34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F550-F46A-480F-97B2-3D3C0D83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ABAF-F7D5-49C6-A704-826A1A2A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3DB7-7C7E-48B8-8EB8-EB942080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BFFE-2C1C-42C3-854B-27CC7952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FDF1-768D-48C0-9D89-193FAC29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5AA6-6B26-4912-8566-C3EEBB16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05AD-9A94-4B46-A34F-351D1E1E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C5D0-D528-4477-9481-5C3E8510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A0AE-4978-4AFA-A264-151C0460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5A62-14D0-4294-AAED-C5E1FDEC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CF7D-1107-4372-8E8D-055860AE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7C9C-E184-4A2C-82D2-3E5F7941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4053-DF89-47D0-8A8C-64A9E7EB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FFB7-309F-4E16-A6DF-77B36853AB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4603-0E94-4658-8B92-ADD90E12009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Garamond"/>
              </a:rPr>
              <a:t>Презентация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99"/>
                </a:solidFill>
                <a:latin typeface="Garamond"/>
              </a:rPr>
              <a:t>Плавание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Мои достижения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41980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ой первый дипло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7" descr="img398"/>
          <p:cNvPicPr/>
          <p:nvPr/>
        </p:nvPicPr>
        <p:blipFill>
          <a:blip r:embed="rId1"/>
          <a:stretch/>
        </p:blipFill>
        <p:spPr>
          <a:xfrm>
            <a:off x="3132000" y="1268280"/>
            <a:ext cx="288000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2060640"/>
            <a:ext cx="8147160" cy="251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99"/>
                </a:solidFill>
                <a:latin typeface="Garamond"/>
              </a:rPr>
              <a:t>Благодарю за </a:t>
            </a:r>
            <a:br>
              <a:rPr sz="4800"/>
            </a:br>
            <a:r>
              <a:rPr b="0" i="1" lang="ru-RU" sz="4800" spc="-1" strike="noStrike">
                <a:solidFill>
                  <a:srgbClr val="000099"/>
                </a:solidFill>
                <a:latin typeface="Garamond"/>
              </a:rPr>
              <a:t>внимание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5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Давайте познакомимся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520524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еня зовут Саша Челышев. Я родился в 1997 году. Я учусь в школе № 10, в 4-а класс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7" descr="IMG_0165"/>
          <p:cNvPicPr/>
          <p:nvPr/>
        </p:nvPicPr>
        <p:blipFill>
          <a:blip r:embed="rId1"/>
          <a:stretch/>
        </p:blipFill>
        <p:spPr>
          <a:xfrm>
            <a:off x="1979640" y="1484280"/>
            <a:ext cx="511344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Дворец  Водных видов спорта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541980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Мой самый любимый вид спорта это плавание. Я им занимаюсь во Дворце Водных видов спор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7" descr="IMG_0013"/>
          <p:cNvPicPr/>
          <p:nvPr/>
        </p:nvPicPr>
        <p:blipFill>
          <a:blip r:embed="rId1"/>
          <a:stretch/>
        </p:blipFill>
        <p:spPr>
          <a:xfrm>
            <a:off x="1979640" y="1341360"/>
            <a:ext cx="5184720" cy="388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Мой тренер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оего любимого тренера зовут Татьяна Юрьевна. Она очень добрая и справедлива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7" descr="IMG_0024"/>
          <p:cNvPicPr/>
          <p:nvPr/>
        </p:nvPicPr>
        <p:blipFill>
          <a:blip r:embed="rId1"/>
          <a:stretch/>
        </p:blipFill>
        <p:spPr>
          <a:xfrm>
            <a:off x="4211640" y="1341360"/>
            <a:ext cx="415296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Мои друзья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ои лучшие друзья в бассейне Данил, Владик, Иль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7" descr="IMG_0015"/>
          <p:cNvPicPr/>
          <p:nvPr/>
        </p:nvPicPr>
        <p:blipFill>
          <a:blip r:embed="rId1"/>
          <a:stretch/>
        </p:blipFill>
        <p:spPr>
          <a:xfrm>
            <a:off x="1979640" y="1600200"/>
            <a:ext cx="5040360" cy="346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Это мои товарищи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501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Это наша группа по плаванию. В нашей группе есть три девочки, которые нам не уступаю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7" descr="IMG_0009"/>
          <p:cNvPicPr/>
          <p:nvPr/>
        </p:nvPicPr>
        <p:blipFill>
          <a:blip r:embed="rId1"/>
          <a:stretch/>
        </p:blipFill>
        <p:spPr>
          <a:xfrm>
            <a:off x="2268360" y="1557360"/>
            <a:ext cx="4392720" cy="326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Я на тренировке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522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не очень нравится плавать, особенно на соревнованиях. Ещё я люблю плавать в ластах и с доск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11" descr="IMG_0010"/>
          <p:cNvPicPr/>
          <p:nvPr/>
        </p:nvPicPr>
        <p:blipFill>
          <a:blip r:embed="rId1"/>
          <a:stretch/>
        </p:blipFill>
        <p:spPr>
          <a:xfrm>
            <a:off x="2411280" y="1341360"/>
            <a:ext cx="475308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Тренировки</a:t>
            </a:r>
            <a:r>
              <a:rPr b="1" lang="ru-RU" sz="44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522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ы тренируемся  шесть раз в неделю. Мы плаваем комплексом: баттерфляй, спина, брасс, крол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IMG_0005"/>
          <p:cNvPicPr/>
          <p:nvPr/>
        </p:nvPicPr>
        <p:blipFill>
          <a:blip r:embed="rId1"/>
          <a:stretch/>
        </p:blipFill>
        <p:spPr>
          <a:xfrm>
            <a:off x="1908000" y="1413000"/>
            <a:ext cx="554364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Тренировки  в спортзале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Три раза в неделю мы занимаемся на тренажёрах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8" descr="IMG_0019"/>
          <p:cNvPicPr/>
          <p:nvPr/>
        </p:nvPicPr>
        <p:blipFill>
          <a:blip r:embed="rId1"/>
          <a:stretch/>
        </p:blipFill>
        <p:spPr>
          <a:xfrm>
            <a:off x="2050920" y="1484280"/>
            <a:ext cx="489744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08:06:47Z</dcterms:created>
  <dc:creator>Nemo</dc:creator>
  <dc:description/>
  <dc:language>en-US</dc:language>
  <cp:lastModifiedBy>Ирина Петровна</cp:lastModifiedBy>
  <dcterms:modified xsi:type="dcterms:W3CDTF">2009-08-17T15:10:36Z</dcterms:modified>
  <cp:revision>4</cp:revision>
  <dc:subject/>
  <dc:title>Презентация</dc:title>
</cp:coreProperties>
</file>